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452-2765-42B3-B3EA-1C58BD7E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A3A-E1AC-46CC-B2C8-C30FE282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EA1-B6EF-4855-9A0E-C312F1E8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BCA-3885-4A94-BF11-64F907E5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A88-C086-4EC4-92A5-3BBCBABB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CBF-BA7E-4264-B4CB-D6A9B41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39C-6D3A-43BB-8ECA-A0CF033E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445-12D1-471A-924B-A8FFFBBA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93E-C794-4E61-B90E-90BE073A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8E8-16D4-4263-A694-FC4E84B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8E5-F99D-4948-B540-CBF2874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A9E-4800-4F96-8DE8-69C288D8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D7AC-57D3-46E8-906F-E098FE81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9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size doesn’t matter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1676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&gt; 10*n   (10*sample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2484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As long as your sample is random, and your population is big enough, its size doesn’t matter to the variability of the statistic (the resu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53352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In a newspaper article, it states that they took a poll of Americans and found that 65% of them think the President is doing a good job.  They say that they are 95% confident about their results, but they have a margin of error of plus or minus3%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he’s doing a good job?  Do you trust their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28600" y="380880"/>
            <a:ext cx="86868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 article the next day saying that they were wrong, that they have a margin of error of 30%, not 3%.  They are still 95% confident in their results though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28600" y="38088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other article.  They took a new sample because their realized their margin of error was too high before.  So now they have a margin of error of 5%.  But they are only 60% confident in their results n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8600" y="3808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Margin of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Want it to be a low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17780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Its always a plus or minus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28600" y="24638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ually paired with a level of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22596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e both the level of confidence and the margin of error to decide whether you trust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54:33Z</dcterms:created>
  <dc:creator>Lauren Senske</dc:creator>
  <dc:description/>
  <dc:language>en-US</dc:language>
  <cp:lastModifiedBy>Lauren Senske</cp:lastModifiedBy>
  <dcterms:modified xsi:type="dcterms:W3CDTF">2009-09-16T16:54:08Z</dcterms:modified>
  <cp:revision>9</cp:revision>
  <dc:subject/>
  <dc:title>Slide 1</dc:title>
</cp:coreProperties>
</file>